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3BB9-3838-4EB7-AF8B-D7A97C9EB5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0505-A3EA-4802-8FA2-388ACB9C1F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21E2-C86F-45F0-8817-0840C85D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EBEC-EE4D-4BF8-9C74-7FD6273B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2178-35E1-4149-8BA8-B591D682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3572-B927-4468-A35D-A5DC563A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B008-1C8D-4D87-B432-94F5D6FF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A0E-876B-4C54-BABC-B19C2EB7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59E7-D811-4B00-AC71-38D9091F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5A67-125B-422F-A586-8465176F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49D6-BDE9-41E4-B282-0EC7B473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2749-538E-4125-899E-DD049FEE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A4DE-54BF-4880-84C7-FA2D05C2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9F82-D7B7-4C09-B977-4334AC59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E42D-BC69-4D8E-9E15-E7462462C0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Lugovoy@dst.khv.ru" TargetMode="External"/><Relationship Id="rId2" Type="http://schemas.openxmlformats.org/officeDocument/2006/relationships/hyperlink" Target="mailto:Lugovoy@dst.khv.ru" TargetMode="External"/><Relationship Id="rId3" Type="http://schemas.openxmlformats.org/officeDocument/2006/relationships/hyperlink" Target="mailto:Lugovoy@dst.khv.ru" TargetMode="External"/><Relationship Id="rId4" Type="http://schemas.openxmlformats.org/officeDocument/2006/relationships/hyperlink" Target="mailto:Lugovoy@dst.khv.ru" TargetMode="External"/><Relationship Id="rId5" Type="http://schemas.openxmlformats.org/officeDocument/2006/relationships/hyperlink" Target="mailto:Lugovoy@dst.khv.ru" TargetMode="External"/><Relationship Id="rId6" Type="http://schemas.openxmlformats.org/officeDocument/2006/relationships/hyperlink" Target="mailto:Lugovoy@dst.khv.ru" TargetMode="External"/><Relationship Id="rId7" Type="http://schemas.openxmlformats.org/officeDocument/2006/relationships/hyperlink" Target="mailto:Lugovoy@dst.khv.ru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ЛОТНЫЕ СЛИЧЕНИЯ КООМЕТ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06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/16 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зылев П.В., ведущий научный сотрудник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боратории оптико-акустических измер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Дальневосточный филиал ВНИИФТРИ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г. Хабаровс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771560" y="192564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771560" y="1925640"/>
            <a:ext cx="2157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ы предварительных измерен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ГИМ, Сентябрь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9280" y="836640"/>
          <a:ext cx="8856720" cy="5580000"/>
        </p:xfrm>
        <a:graphic>
          <a:graphicData uri="http://schemas.openxmlformats.org/drawingml/2006/table">
            <a:tbl>
              <a:tblPr/>
              <a:tblGrid>
                <a:gridCol w="1728720"/>
                <a:gridCol w="1872000"/>
                <a:gridCol w="1800000"/>
                <a:gridCol w="1152720"/>
                <a:gridCol w="1150920"/>
                <a:gridCol w="1152360"/>
              </a:tblGrid>
              <a:tr h="642600">
                <a:tc row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 продольных УЗ волн, 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, МГ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(d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ЭТ189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j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ИСУ-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рц КВ 100х100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69,5 ± 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9,91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± 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9,907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рц КВ* 100х100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59,5 ± 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9,9480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59,6 ± 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9,9491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рц КВ* 100х100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59,5 ± 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9,9480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61,3 ± 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9,9491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рц К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4,1 ± 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40,05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6,2 ± 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40,05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кло БК8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23,2 ± 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0,07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23,4 ± 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0,07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ль 40Х13*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3,2 ± 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0,8384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4,5 ± 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0,840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ль 40Х1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3,3 ± 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1,1848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2,0 ± 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1,185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5" name="TextBox 9"/>
          <p:cNvSpPr/>
          <p:nvPr/>
        </p:nvSpPr>
        <p:spPr>
          <a:xfrm>
            <a:off x="179280" y="6453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 Меры принимали участие в сличениях 448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лоны сравнения. Новый компл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4000" y="1004760"/>
          <a:ext cx="8640720" cy="3888000"/>
        </p:xfrm>
        <a:graphic>
          <a:graphicData uri="http://schemas.openxmlformats.org/drawingml/2006/table">
            <a:tbl>
              <a:tblPr/>
              <a:tblGrid>
                <a:gridCol w="434880"/>
                <a:gridCol w="2733480"/>
                <a:gridCol w="2087640"/>
                <a:gridCol w="1800360"/>
                <a:gridCol w="1584360"/>
              </a:tblGrid>
              <a:tr h="346680"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рка стек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талог Шот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 продольных УЗ волн, 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метрические размеры,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инальная толщ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ере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2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F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K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K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7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-BK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7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F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7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варц 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9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варц 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771560" y="192564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771560" y="1925640"/>
            <a:ext cx="2157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0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ры скорости из сте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Меры_1308"/>
          <p:cNvPicPr/>
          <p:nvPr/>
        </p:nvPicPr>
        <p:blipFill>
          <a:blip r:embed="rId1"/>
          <a:stretch/>
        </p:blipFill>
        <p:spPr>
          <a:xfrm>
            <a:off x="673200" y="1085760"/>
            <a:ext cx="764388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1771560" y="192564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771560" y="1925640"/>
            <a:ext cx="2157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 работ 201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611280" y="836640"/>
            <a:ext cx="82818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ование темы с участниками сли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ование графика проведения измерений с участниками слич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Технического проток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эталонов сравнения - комплекта эталонных мер скор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измерений с использованием комплекта эталонных мер скорости в Дальневосточном филиале ФГУП «ВНИИФТРИ»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-I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ртал 2018 г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измерений с использованием нового комплекта эталонных мер скорости в БелГ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ртал 2018 г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771560" y="192564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771560" y="1925640"/>
            <a:ext cx="2157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7776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771560" y="192564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771560" y="1925640"/>
            <a:ext cx="2157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036000" cy="6553080"/>
          </a:xfrm>
          <a:prstGeom prst="rect">
            <a:avLst/>
          </a:prstGeom>
          <a:noFill/>
          <a:ln w="0">
            <a:noFill/>
          </a:ln>
        </p:spPr>
        <p:txBody>
          <a:bodyPr lIns="36000" rIns="18000"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едлагаемая тема</a:t>
            </a:r>
            <a:br>
              <a:rPr sz="1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ЛОТНЫЕ СЛИЧЕНИЯ КООМЕТ 706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/16</a:t>
            </a:r>
            <a:br>
              <a:rPr sz="2400"/>
            </a:br>
            <a:br>
              <a:rPr sz="18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личение результатов измерений скорости распространения продольных ультразвуковых волн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твердых средах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частники: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альневосточный филиал ФГУП ВНИИФТРИ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оссия, Хабаровск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елГИМ (Беларусь)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П «Днепрстандартметрология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краина)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едлагаемая тема зарегистрирована в Секретариате КООМЕТ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 12 заседании ТК 1.2 КООМЕТ (Вильнюс, сентябрь 2017) заинтересованность в участии в сличении выразили представители ГП «Укрметртестстандарт» (Украина)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 НМИ Кита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771560" y="192564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771560" y="1925640"/>
            <a:ext cx="2157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яр предлагаемой 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М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79280" y="569880"/>
          <a:ext cx="8785440" cy="5791320"/>
        </p:xfrm>
        <a:graphic>
          <a:graphicData uri="http://schemas.openxmlformats.org/drawingml/2006/table">
            <a:tbl>
              <a:tblPr/>
              <a:tblGrid>
                <a:gridCol w="3745080"/>
                <a:gridCol w="504036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АЯ ТЕМА КОО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орядковый номер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6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Тематическая област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СТИКА, УЛЬТРАЗВУК И ВИБ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аправление сотрудничеств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лотные сли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артнеры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евосточный филиал ФГУП «ВНИИФТРИ» (Россия), БелГИМ  (Беларусь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Наименование темы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ичение результатов измерений скорости распространения  продольных ультразвуковых волн в твердых  сред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Описан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ю темы является проведение исследований для установления причин расхождения результатов  измерений скорости распространения продольных ультразвуковых волн, полученных в 2011 году на установках для измерения скорости распространения продольных УЗ волн УИСУ-3 (Беларусь) и эталонной установки УВТ 39-А-8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лоны сравнения - меры из стекол различных марок и конструкционных матери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пазоны воспроизведения скорости, м/с ………………………5000 - 6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пазон частот УЗ продольных волн, МГц……………………   0,5 - 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пазон толщин мер, м…………………………………………...1*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1*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771560" y="192564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771560" y="1925640"/>
            <a:ext cx="2157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яр предлагаемой 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М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476280"/>
          <a:ext cx="8785440" cy="6303960"/>
        </p:xfrm>
        <a:graphic>
          <a:graphicData uri="http://schemas.openxmlformats.org/drawingml/2006/table">
            <a:tbl>
              <a:tblPr/>
              <a:tblGrid>
                <a:gridCol w="3961080"/>
                <a:gridCol w="1726920"/>
                <a:gridCol w="3097440"/>
              </a:tblGrid>
              <a:tr h="4205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Дополнительные замечан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имеет значение для измерений в области ультразвуковой толщинометрии, дефектоскопии, структуроскопии и при определении физико-механическх характеристик твердых ср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амках темы предлагается разработка предложений КООМЕТ по расширению классификатора СМС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U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область акустики твердых ср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2011 году был завершен проект: «Сличение результатов измерений скорости распространения продольных ультразвуковых волн в твердых средах» (тема: 448/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8). В рамках проекта было проведено сличение результатов измерений с участием исходных установок УВТ 39-А-86 (Россия) и УИСУ-3 (Беларусь). Сличения выявили расхождение результатов измерений скорости продольных ультразвуковых волн различными методами: бесконтактным импульсным опто-акустическим (Россия) и иммерсионным импульсным (Белоруссия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амках КООМЕТ для  получения новых результатов и выявления  причин расхождения результатов предлагается организация нового сличения  с целью измерения скорости распространения продольных ультразвуковых волн с участием эталонной  оптической установки, входящей в состав государственного первичного эталона  ГЭТ 189-2014 (Россия); эталонной  ёмкостной  установки ИЗУ для комплексного измерения акустических параметров твердых сред (ГОСТ Р 8.756-2014, Россия) и иммерсионной установки УИСУ-3 (Беларусь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3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Фамилия предлагающего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говой Владимир Александр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, 680 000, Хабаровск, ул. Карла - Маркса - 65, Дальневосточный филиал ФГУП «ВНИИФТР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: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7 (4212) 30-17-62,  +7 (4212) 32-17-68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с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+7 (4212) 30-15-66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govoy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@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v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Подпись предлагающ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Предлагаемая дата начал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вартал 2017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3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Виза Члена Комитета КООМ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:   В.Н. Крутиков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ись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41" descr="Луговой"/>
          <p:cNvPicPr/>
          <p:nvPr/>
        </p:nvPicPr>
        <p:blipFill>
          <a:blip r:embed="rId1"/>
          <a:stretch/>
        </p:blipFill>
        <p:spPr>
          <a:xfrm>
            <a:off x="2752560" y="5516640"/>
            <a:ext cx="1171800" cy="504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9" descr="подпись"/>
          <p:cNvPicPr/>
          <p:nvPr/>
        </p:nvPicPr>
        <p:blipFill>
          <a:blip r:embed="rId2"/>
          <a:stretch/>
        </p:blipFill>
        <p:spPr>
          <a:xfrm>
            <a:off x="5827680" y="6058080"/>
            <a:ext cx="133668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771560" y="192564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1771560" y="1925640"/>
            <a:ext cx="2157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85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лоны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лонная установка в составе государственного первичного эталона единиц скоростей распространения и коэффициента затухания УЗ волн в твердых средах ГЭТ189-2014 (ДВФ ВНИИФТРИ, Россия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сконтактные оптические методы возбуждения и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регистрации продольных УЗ волн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▪ Э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-импульсный метод измерени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Эталонная установка для комплексных измерений акустических параметров твердых сред ИЗУ (ДВФ ВНИИФТРИ, Россия)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▪ Бе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ные емкостные методы возбуждения и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регистрации продольных УЗ вол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▪ Э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-импульсный и резонансный методы измерени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Эталонная установка для измерения скорости продольных ультразвуковых волн УИСУ-3 (БелГИМ, Беларус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мерсионный метод возбуждения и регистрации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продольных УЗ волн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▪ Э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-импульсный метод измерени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Эталонная установка для измерения скорости продольных ультразвуковых волн УИСУ-01 (Днепрстандартметрология, Украин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▪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мерсионный метод возбуждения и регистрации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продольных УЗ волн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▪ Э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-импульсный метод измерений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ота продольных УЗ волн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Г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771560" y="192564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771560" y="1925640"/>
            <a:ext cx="2157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яр согласованной тем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О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79280" y="549360"/>
          <a:ext cx="8640720" cy="6291000"/>
        </p:xfrm>
        <a:graphic>
          <a:graphicData uri="http://schemas.openxmlformats.org/drawingml/2006/table">
            <a:tbl>
              <a:tblPr/>
              <a:tblGrid>
                <a:gridCol w="4316400"/>
                <a:gridCol w="4324320"/>
              </a:tblGrid>
              <a:tr h="314280">
                <a:tc gridSpan="2"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ГЛАСОВАННАЯ ТЕМА КОО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орядковый номер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6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Тематическая облас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СТИКА, УЛЬТРАЗВУК И ВИБ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 gridSpan="2"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аправление сотрудничества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лотные сли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1120">
                <a:tc gridSpan="2">
                  <a:txBody>
                    <a:bodyPr lIns="33480" rIns="33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. Рабочая групп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Республика Беларусь, Белорусский государственный институт метрологии (БелГИМ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 Федоров Владислав Викторович, заместитель начальника отдел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 Добров Александр Александрович, ведущий инженер производственно-исследовательского отдела измерений виброакустических величин и параметров неразрушающего контрол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Украина, Государственное предприятие «Днепропетровский региональный государственный научно-технический центр стандартизации, метрологии и сертификаци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ГП «Днепрстандартметрология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 Сазонов Павел Александрович, начальник научно-технического отдела поверки и калибровки средств измерительной техники неразрушающего контрол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Украина,  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Государственное предприятие «Всеукраинский государственный центр стандартизации, метрологии, сертификации и защиты прав потребителей» (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ГП «Укрметртестстандарт»)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 Иващенко Андрей Павлович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начальник НПО МО измерений параметров движения и вибро-акустических велич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итай, НМ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Российская Федерация,  Дальневосточный филиал ФГУП «ВНИИФТРИ» (НМИ - пилот)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 Луговой Владимир Александрович, начальник лаборатории оптико-акустических измерен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 Базылев Петр Владимирович, ведущий научный сотрудник лаборатории оптико-акустических измерений, ученый хранитель Государственного первичного эталона скоростей распространения и коэффициента затухания ультразвуковых волн в твердых средах ГЭТ 189-20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gridSpan="2">
                  <a:txBody>
                    <a:bodyPr lIns="33480" rIns="33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Наименование тем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Сличение результатов измерений скорости распространения продольных ультразвуковых волн в твердых  сред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771560" y="192564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1771560" y="1925640"/>
            <a:ext cx="2157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яр согласованной тем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О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692280"/>
          <a:ext cx="8642160" cy="5986440"/>
        </p:xfrm>
        <a:graphic>
          <a:graphicData uri="http://schemas.openxmlformats.org/drawingml/2006/table">
            <a:tbl>
              <a:tblPr/>
              <a:tblGrid>
                <a:gridCol w="3341520"/>
                <a:gridCol w="1209600"/>
                <a:gridCol w="578160"/>
                <a:gridCol w="3512880"/>
              </a:tblGrid>
              <a:tr h="1949400">
                <a:tc gridSpan="4"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. Описан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Целью темы</a:t>
                      </a:r>
                      <a:r>
                        <a:rPr b="0" i="1" lang="ru-RU" sz="1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является проведение сличений результатов измерения скорости распространения продольных ультразвуковых волн в </a:t>
                      </a:r>
                      <a:r>
                        <a:rPr b="1" i="1" lang="ru-RU" sz="1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твердых сред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Эталоны сравнения - меры из стекол различных марок и конструкционных материа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иапазон воспроизведения скорости, м/с ………………………5000 - 6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Диапазон частот УЗ продольных волн, МГц…………………… 0,5 - 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Диапазон толщин мер, м…………………………………………..1*10</a:t>
                      </a:r>
                      <a:r>
                        <a:rPr b="0" lang="ru-RU" sz="1400" spc="-1" strike="noStrike" baseline="30000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ru-RU" sz="1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 - 1*10</a:t>
                      </a:r>
                      <a:r>
                        <a:rPr b="0" lang="ru-RU" sz="1400" spc="-1" strike="noStrike" baseline="30000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личения пилотные. НМИ - пилот: Дальневосточный филиал ФГУП «ВНИИФТРИ», Р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920">
                <a:tc gridSpan="4"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Дополнительные замечан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имеет значение для измерений в области ультразвуковой толщинометрии, дефектоскопии, структуроскопии и при определении физико-механических характеристик твердых ср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2480">
                <a:tc gridSpan="4"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Фамилия координатора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говой Владимир Александр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, 680000, г. Хабаровск, ул. Карла  Маркса, 65, Дальневосточный филиал ФГУП «ВНИИФТР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: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7 (4212) 30-17-62,  +7 (4212) 32-92-68,  м.т. +7 914 541 96 60.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с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+7 (4212) 30-15-66               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Lugovoy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@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dst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.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khv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.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3960"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. Дата согласования тем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 БелГ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 ГП «Днепрстандартметролог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 ГП «Укрметртестстандар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 Китай, Н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ема №706/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7800" rIns="37800" tIns="0" bIns="0" anchor="t">
                      <a:noAutofit/>
                    </a:bodyPr>
                    <a:p>
                      <a:pPr marL="6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. Дата начал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квартал 2017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1. Ожидаемая дата окончан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квартал 201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680">
                <a:tc gridSpan="2"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ись координатор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ат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лоны с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4000" y="1004760"/>
          <a:ext cx="8640720" cy="4705560"/>
        </p:xfrm>
        <a:graphic>
          <a:graphicData uri="http://schemas.openxmlformats.org/drawingml/2006/table">
            <a:tbl>
              <a:tblPr/>
              <a:tblGrid>
                <a:gridCol w="434880"/>
                <a:gridCol w="2733480"/>
                <a:gridCol w="2087640"/>
                <a:gridCol w="1800360"/>
                <a:gridCol w="1584360"/>
              </a:tblGrid>
              <a:tr h="349560"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 продольных УЗ волн, 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метрические размеры,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инальная толщ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ере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рцевое стекло К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8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рцевое стекло К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8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рцевое стекло 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ическое стекло К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8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ическое стекло К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3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ическое стекло БК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8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ль 40Х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ль 40Х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лоны сравнения.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179280" y="907920"/>
            <a:ext cx="8785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перечные размеры мер не менее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диаметр меры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толщина мер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клонение от плоскостности рабочих поверхностей мер в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есимметричной зоне диаметром 50 мм – не более 0,5 мкм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клонение от параллельности рабочих поверхностей мер на диаметре 50 мм – не более 0,005 мм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ероховатость со стороны регистрации УЗ импульсов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z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не более 0,1 мкм; шероховатость со стороны возбуждения УЗ импульсов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z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не более 0,32 мк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эффициент затухания продольных УЗ волн – не более 150 дБ/м в диапазоне частот до 25 МГ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7:20:41Z</dcterms:created>
  <dc:creator>Базылев П.В.</dc:creator>
  <dc:description/>
  <dc:language>en-US</dc:language>
  <cp:lastModifiedBy>Базылев</cp:lastModifiedBy>
  <dcterms:modified xsi:type="dcterms:W3CDTF">2017-10-20T06:55:30Z</dcterms:modified>
  <cp:revision>55</cp:revision>
  <dc:subject/>
  <dc:title>Сличения КООМЕТ 448/RU/08   ДВФ ВНИИФТРИ (Россия, Хабаровск)  БелГИМ (Беларусь, Минск)  Анализ результатов сличений  по Руководству КООМЕТ R/GM/14:2006 Руководство по оцениванию данных ключевых сличений КOOMET (по материалам отчета о сличении)</dc:title>
</cp:coreProperties>
</file>